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1E6-3483-4E49-9202-818B4A29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8B5-371C-4693-91CD-48A91BCF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F78-409D-4D00-9E84-70FFDD4B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614-3B11-46D2-898E-57649645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9473-F718-4406-A863-43BCA214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C0F3-F44B-4A42-8B8B-7E010305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FEA-472C-4436-9CE3-BC3A49C8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70B8-89C9-43A0-9724-88A6AB06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540F-01F2-4116-A72D-B6A4CD10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8C48-7668-48B8-B020-F4FB8133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11C7-FBE2-49FB-B092-E1C0FEE3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79B-3536-44F2-A497-C11ABB7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DA92-6849-48F7-B685-884E0B3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2C97-B3CC-47E2-8001-981CFB6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8FBC-0DC6-4287-9535-70F99814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48FE-3163-4C6F-BA2F-EF08695A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EA13-4548-4995-809B-5C87051D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159D-A60F-4F1A-9852-C1C5FF04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69AA-7D03-4C0B-B63C-D2D7242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B99A-BF95-4E49-B6CE-9B14CFD6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6B47-38CF-4417-93A1-83EA89A3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889B-9A7B-407C-83AC-083F19BE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ADD-0C45-49EE-B8CD-EF5D56AF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9636-CB13-4B5D-8702-D67A5CCC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0FF1-1E7C-4C61-96B8-185FA24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9B8A-0B58-4841-91B5-DB24EC5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3D13-26CD-4F58-8840-B43ECA8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2B88-CC83-4457-AE7D-EA6A0CD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DC33-57AD-49D9-885B-02855BB8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ECC1-D2E3-4C10-8CA0-B07D50FC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71B8-B696-4406-B865-1A47C8B6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1A8F-C8D9-47AF-BA6F-7325DF0D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069B-BA9B-4741-BA6D-BBC7B9A8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0A5-D1FC-4195-8D75-8B94408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5ACE-555A-424A-97D8-4089CFC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3289-F626-425D-ADB5-A8AAD826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BDE4A-1AEC-4FEF-A22C-B31ECF24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67AE0-A650-4780-9B5B-E87798B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51FB-C219-4C8F-BD7F-833C1B7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747F-96DA-4BCE-AE33-13C2B30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CE3D-26F7-47F5-822D-77CED513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2F09-6C2A-4BC1-9135-5A6A84AD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4431-8AF3-4A1C-B78B-E4024EF1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2BC9-FE27-44DD-944A-89C661A2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596-C68E-446E-A06F-93C20D6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DB7E2-56D8-4D29-A2CA-E323AF2A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F741-87B1-4CFF-9A08-D8BBC8D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A382-B332-4CE8-AD70-C3EFE3AC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E0B6-3D14-4039-A194-3886AC5B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437B-52E5-4C0F-83BF-C29027A3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C9775-B2EB-42C5-9612-B64CF85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75FA-F5C5-4E02-B64A-25358856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DF9CE-7AF9-4241-B59B-A3B03AC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63F3-B548-49B9-8318-225E996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25891-F5C7-4E72-BB57-0B7CE7DF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595-ED64-41AB-9E45-871FB8E8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1D3BC-23E1-4D43-AD86-EBF8E5E7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A59F7-342E-42A4-8960-31C293A9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29AD-64C0-466F-B910-2FDEEEEC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FEE4-7257-442D-8A90-75DDAA4D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4D0F6-2DD9-4361-98BF-2701B904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2736-3A6A-46ED-B38E-7B91DE3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4BF76-47A0-4D4F-B6BD-8A57B3F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103D-0219-451B-A008-3E42AAC2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D4BE3-CBF5-4D17-AFE7-8CD05FA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27EC-F050-4954-9F06-C1E061A7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78E-FF1F-4590-B283-2378C494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E28A0-D453-41FD-B4A7-51EC0BBB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63E6-8AB4-46C2-B624-003EA717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3592-FD3C-41B0-A9A7-639DF18F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185CD-680E-46A4-8F61-BD7C4093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DFF4B-D0C1-4F9A-92E6-59380D6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7250-5E67-471E-9E08-6000305F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D7A89-6352-479F-BBD2-5E57BF0B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CAD14-5379-4011-8562-3B97422D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9DC47-E53F-4471-8D4B-8A3E7BE4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1A5D6-4AFD-4632-9124-DA98407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B6D-B4FD-4C2D-81E8-35A362B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0C92-7C06-4E3F-9148-444CDFE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137CE-970D-4FE4-9440-4E3897C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96565-F552-4460-AFD7-F23A0B5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3E1F-E4DE-451B-9BCD-D1C6EDF3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9D4F-86F1-487B-9362-8DFFFD58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B3D7-4851-40AE-9238-83F30DB5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EC0F4-CCE2-4E0C-9CDC-612724B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5D61-8878-4594-A0D9-FCE0C27C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F065A-B458-4419-9CFE-0BFD970C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AC678-91B8-4EA0-ABF5-077D5B95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1A4-7BE4-4CC4-B943-330E90AC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B2D0B-DE9A-46DF-A868-CD11E452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4A401-9BD6-458B-BC49-B69EA68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4358E-D256-4E8A-8227-C74E949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2409F-CA2E-468B-8B53-DE82E27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BA0BC-16DD-4567-976E-6A6D278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08832-2012-4436-AC1C-FA5A110E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001E-CE48-4D29-8AAC-BE3E956D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F32-3AE0-4A5D-A534-6F7469B7F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7F08-32BE-49FE-80C5-EBD90D601A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17B-EA15-404F-9999-F25BC8368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583B-629F-419A-9389-744FFAA5DD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22BC-C386-4180-B1AF-A07EA4098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D263-79F8-429A-8422-3144471AD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0F71-076A-492F-BB13-084FE5B8B29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CDB-87B0-4ED0-BA7E-46CD8277863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Katherine drove 18 miles from her house to the airport to pick up her daughter, Lindy.  Katherine arrived at the airport at 2:30 P.M.  Lindy’s plane was late, so Katherine was in the airport for 2 hours.  She then drove Lindy back to their house.  They arrived at the house at 5:00 P.M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a good estimate of the total number of miles that Katherine drov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many minutes was Katherine at the airport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time did Katherine leave the airport with Lind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long does it take to get from the airport to Katherine’s hous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04560" y="1142640"/>
            <a:ext cx="8305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ctly how many miles is it from Katherine’s house to the airport and back to her hous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02:23Z</dcterms:created>
  <dc:creator>127partidak</dc:creator>
  <dc:description/>
  <dc:language>en-US</dc:language>
  <cp:lastModifiedBy>127partidak</cp:lastModifiedBy>
  <dcterms:modified xsi:type="dcterms:W3CDTF">2011-11-21T17:07:20Z</dcterms:modified>
  <cp:revision>1</cp:revision>
  <dc:subject/>
  <dc:title>Information</dc:title>
</cp:coreProperties>
</file>